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50B-C585-42B3-9B37-CF2A28D2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113-2939-4078-B45E-2E4CA9A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B94-B584-438F-8C43-F7188C8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023-5667-4D43-A91F-74C87250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F00-83FA-4C48-9F21-0F070632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958-1E8B-4768-B74D-C4ED7CD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7C76-86E5-4D23-A8E0-06F7177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3F9B-9780-4B53-A74B-8A1753F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0CF-D001-49D1-B2D0-9398CA34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760-B0D3-4AB3-AE81-47E200C6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8E4-431C-4CD2-B809-DF4A408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3BA-2202-428A-90BD-9A0E0E1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9EA-A686-4B1B-8822-6EF63722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3299-8F44-47EF-8CE2-12D2D91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6DFD-2CCF-41A0-9A76-7010A7E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75FD-FEDD-43EA-8109-FC34B41C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5C6-5675-447E-9BD0-BB191F73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FDA-2ECD-4AAD-878B-A207C68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466-1260-45ED-8203-FFF43EE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FF1-DF63-416B-B9B1-7013AF63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CF3-294D-45B6-BCC5-FEE3294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8DA-4804-4044-8F9D-84C203E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E5D-8596-4416-B5DD-B40F706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711-F853-44BD-A425-E44D39EC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4586-271D-417E-AE7E-517AFA33D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2DF-F18D-4328-82EF-F042D54C05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apter 20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ITICAL REALIGNMENT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 THE 1890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riffs, Trusts and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McKinley Tariff raises duties to historic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s Pension Act: By 1893, 1 million receiving pensions from union ar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Sherman Anti-Trust Act regulates bi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.S. vs. E.C. K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rifies that law does not apply to manufactur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Sherman Silver Purchase Act moves country toward bi-metallic monetar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1890 Ele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ion Dollar” Congress alienate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also assert activist government policies on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day closing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English in public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0: Alienated voting blocks turn out Republican legis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Rise of th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pulist Mo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3443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ntented farmers of West and South provide base of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Farmers' Alliance and Industrial Union the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rm Probl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wide agricultural economy causes great fluctuations in supply and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’ compl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prices for crops (although purchasing power ris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railroad rates (rates actually decli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rous mortgages (loans permit production expan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of farmers vary by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eeling of depression, rese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ected Commodity Pr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1695600"/>
            <a:ext cx="845820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st-Grow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ers' Alli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3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: Southern Alliance be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ance movement segregated, Colored Farmer’s National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royed after leaders lynched in 18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9: Regional Alliances merge into National Farmer’s Alli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 in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llman: Capture existing Democratic party to maintain white supre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Watson and Leondias Polk urge new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1890, Alliance runs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ers like Mary “Yellin’” Lease promote Alliance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91540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st-Grow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ers' Alliance: Ocala Dem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7848360" cy="518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of government warehouses to hold crops for high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oinage of sil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ar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income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election of Sena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ion of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ople's Par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Alliance splits from Democrats to form Populis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Populists recruit African Americans, give them influential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Populist presidential candidate James Weaver draws over one million v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es South to violence and intimidation by Southern Democ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es urba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ance wanes after 1892 el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621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risis of the Depr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crisis dominated the 18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overbuilt, companies grew beyond their markets, farms and businesses went deeply in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litics of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s was a major fascination of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males made up bulk of electo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may vote in national elections only in Wyoming, Utah, Idaho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men denied vote by poll tax, literacy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anic of 189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93: Failure of major railroad sparks panic on New York Stock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ors sell stock to purchase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eted Treasury shakes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893: Market hits record low, business failures displace 2 million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4: Corn crop f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xey's Army and th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llman Strik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4: Jacob Coxey led “Coxey’s Army” to Washington to demand r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lman strike joined by Eugene Debs’ American Railway Union closed Western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Cleveland suppressed strikes with federal troops and Debs was ar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iners of the Midw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Mine Workers strike of 18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miners”: English and Irish workers, owners of small family 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iners”: 1880s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e pits new miners against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Beleaguered Presid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veland repeals Sherman Silver Purchase Act to remedy Panic of 18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 fails to stop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 makes silver a political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renege on promise of lower tar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eaking the Party Deadlo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94 reduced Democrats to a sectional southern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swept congressional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ecame majority else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ing Attitu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of 1893 forced recognition of structural causes of 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accepted the need for government intervention to help the poor and jo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erybody Works but Father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nd children paid lower wages, displaced men during depr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rs retaind women and children after depression to hold dow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ing Themes in Litera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encouraged “realist”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wain’s characters spoke in dia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Dean Howells, Stephen Crane portrayed grim life of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k Norris attacked power of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e Dreiser presented humans as  helpless before vast social, economic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residential Election of 189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oinage of silver the mai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 the mone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as solution to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voting patterns emerged and national policy shif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ystique of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54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and independent coinage of silv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ratio of silver to gold at 1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mints coined all silver offer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coined silver regardless of other nations’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ites believed amount in circulation determined level of economic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al crusade for the commo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arty Deadlo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Civil War Democratic party divides electorate almost evenly with Republ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emphasize state’s rights and limited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blicans see government as agent to promote moral progress and material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party control of both Congress and White House r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arty has safe states, control of federal government rests with 6 “doubtful” states in North and Mid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influence wanes, state control 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ublicans and Gol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:  William McKin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ite Republicans defeated on convention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d gold standard to restore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emocrats and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:  William Jennings B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silver promised in "Cross of Gold"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were enthusi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paign and Ele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ist party endorsed B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an offered return to rural, religiou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inley defended urban, industri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was a clear victory for McKinley, utter rout of Populis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357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cKinley Administ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inley took office at depression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ist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gley Tariff raised rates to record hig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: U.S. placed on gold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: McKinley won landslide reelection against William Jennings Bry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9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0" t="16584" r="0" b="2595"/>
          <a:stretch/>
        </p:blipFill>
        <p:spPr>
          <a:xfrm>
            <a:off x="457200" y="220968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Decade’s Dramatic Chan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0320"/>
            <a:ext cx="82296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1901: McKinley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e Roosevelt became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ments in the Sta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government commissions investigate, regulate railroads,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nn v. Illino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1877) upholds constitutionality of state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bash case (1886) prompts establishment of Interstate Commerce Commission (I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C prototype for modern regulatory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establish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idential Pow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3032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cy hits nadir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presidents reassert executi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ended military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field asserted leadership of his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ur strengthened navy, civil service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veland used veto to curtail federal activities, called for low 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88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15700" r="0" b="0"/>
          <a:stretch/>
        </p:blipFill>
        <p:spPr>
          <a:xfrm>
            <a:off x="304920" y="2209680"/>
            <a:ext cx="85341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88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12350" r="0" b="0"/>
          <a:stretch/>
        </p:blipFill>
        <p:spPr>
          <a:xfrm>
            <a:off x="304920" y="2057400"/>
            <a:ext cx="86104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36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ublicans in Power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illion-Dollar Cong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8088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8: Republicans control both White House and Capitol Hi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0: Adoption of Reed Rules permits enactment of “billion dollar” pro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0T09:42:07Z</dcterms:created>
  <dc:creator>HstM3</dc:creator>
  <dc:description/>
  <cp:keywords/>
  <dc:language>en-US</dc:language>
  <cp:lastModifiedBy>Teresa Ward User</cp:lastModifiedBy>
  <cp:lastPrinted>2012-09-11T10:32:31Z</cp:lastPrinted>
  <dcterms:modified xsi:type="dcterms:W3CDTF">2006-11-09T18:42:25Z</dcterms:modified>
  <cp:revision>11</cp:revision>
  <dc:subject/>
  <dc:title>POLITICAL REALIGNMENTS IN THE 1890s</dc:title>
</cp:coreProperties>
</file>